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appear.wav" ContentType="audio/x-wav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5D4F-CBC3-41FB-819C-29171CC0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E861-E1D0-4CE9-B742-A9BFDB46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AE5-1C18-4CD4-A363-40634CF7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198-446E-4EAF-86B7-EB3B179C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C010-8450-4789-B22B-E79FC774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3DA4-E39D-464C-9E32-D1DDC64A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9E5A-E092-4A08-A3A6-4452110E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ECC2-CBBE-48E2-81F6-44706533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E484-067F-444D-BAD0-319BEFD7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C10E-A87E-4F9F-83B2-9F523AE1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D243-E1DD-4947-BA9B-F3C530B3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7CDE-EBF3-4E0F-B938-1B503F15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F71D-2484-44F8-9BB8-A9CFD1471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appear.wav"/><Relationship Id="rId4" Type="http://schemas.openxmlformats.org/officeDocument/2006/relationships/audio" Target="../media/appear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appear.wav"/><Relationship Id="rId4" Type="http://schemas.openxmlformats.org/officeDocument/2006/relationships/audio" Target="../media/appear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audio" Target="../media/appear.wav"/><Relationship Id="rId4" Type="http://schemas.openxmlformats.org/officeDocument/2006/relationships/audio" Target="../media/appear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audio" Target="../media/appear.wav"/><Relationship Id="rId4" Type="http://schemas.openxmlformats.org/officeDocument/2006/relationships/audio" Target="../media/appear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286000" y="1523880"/>
            <a:ext cx="685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Mi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167652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hombr</a:t>
            </a:r>
            <a:r>
              <a:rPr b="0" lang="en-GB" sz="15000" spc="-1" strike="noStrike">
                <a:solidFill>
                  <a:srgbClr val="3333cc"/>
                </a:solidFill>
                <a:latin typeface="Comic Sans MS"/>
              </a:rPr>
              <a:t>o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659640" y="4292640"/>
            <a:ext cx="1814400" cy="2125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814760" cy="2125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>
            <a:off x="1042560" y="333360"/>
            <a:ext cx="2233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763640" y="404640"/>
            <a:ext cx="165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9480" y="167652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ies</a:t>
            </a: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74367" t="16274" r="7606" b="68728"/>
          <a:stretch/>
        </p:blipFill>
        <p:spPr>
          <a:xfrm>
            <a:off x="395280" y="333360"/>
            <a:ext cx="24955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167652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12448" t="37533" r="68327" b="47465"/>
          <a:stretch/>
        </p:blipFill>
        <p:spPr>
          <a:xfrm>
            <a:off x="0" y="-963720"/>
            <a:ext cx="4257720" cy="4508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177336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boca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74367" t="37533" r="7606" b="47465"/>
          <a:stretch/>
        </p:blipFill>
        <p:spPr>
          <a:xfrm>
            <a:off x="324000" y="333360"/>
            <a:ext cx="3711600" cy="4175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09480" y="167652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77336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pelo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54102" t="16274" r="27779" b="68728"/>
          <a:stretch/>
        </p:blipFill>
        <p:spPr>
          <a:xfrm>
            <a:off x="250920" y="189000"/>
            <a:ext cx="3330360" cy="3744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09480" y="167652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77336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nariz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718080" y="31240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13716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orej</a:t>
            </a:r>
            <a:r>
              <a:rPr b="0" lang="en-GB" sz="15000" spc="-1" strike="noStrike">
                <a:solidFill>
                  <a:srgbClr val="ff0000"/>
                </a:solidFill>
                <a:latin typeface="Comic Sans MS"/>
              </a:rPr>
              <a:t>a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12448" t="16420" r="69453" b="68653"/>
          <a:stretch/>
        </p:blipFill>
        <p:spPr>
          <a:xfrm>
            <a:off x="250920" y="0"/>
            <a:ext cx="28432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692360" y="1413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negr</a:t>
            </a:r>
            <a:r>
              <a:rPr b="0" lang="en-GB" sz="15000" spc="-1" strike="noStrike">
                <a:solidFill>
                  <a:srgbClr val="ff0000"/>
                </a:solidFill>
                <a:latin typeface="Comic Sans MS"/>
              </a:rPr>
              <a:t>a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03280" y="1197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blanc</a:t>
            </a:r>
            <a:r>
              <a:rPr b="0" lang="en-GB" sz="15000" spc="-1" strike="noStrike">
                <a:solidFill>
                  <a:srgbClr val="3333cc"/>
                </a:solidFill>
                <a:latin typeface="Comic Sans MS"/>
              </a:rPr>
              <a:t>o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16000" y="1413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blanc</a:t>
            </a:r>
            <a:r>
              <a:rPr b="0" lang="en-GB" sz="15000" spc="-1" strike="noStrike">
                <a:solidFill>
                  <a:srgbClr val="ff0000"/>
                </a:solidFill>
                <a:latin typeface="Comic Sans MS"/>
              </a:rPr>
              <a:t>a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26920" y="134136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morad</a:t>
            </a:r>
            <a:r>
              <a:rPr b="0" lang="en-GB" sz="15000" spc="-1" strike="noStrike">
                <a:solidFill>
                  <a:srgbClr val="3333cc"/>
                </a:solidFill>
                <a:latin typeface="Comic Sans MS"/>
              </a:rPr>
              <a:t>o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28600" y="152388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pintura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00000" y="134136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morad</a:t>
            </a:r>
            <a:r>
              <a:rPr b="0" lang="en-GB" sz="15000" spc="-1" strike="noStrike">
                <a:solidFill>
                  <a:srgbClr val="ff0000"/>
                </a:solidFill>
                <a:latin typeface="Comic Sans MS"/>
              </a:rPr>
              <a:t>a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16000" y="1413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rosad</a:t>
            </a:r>
            <a:r>
              <a:rPr b="0" lang="en-GB" sz="15000" spc="-1" strike="noStrike">
                <a:solidFill>
                  <a:srgbClr val="3333cc"/>
                </a:solidFill>
                <a:latin typeface="Comic Sans MS"/>
              </a:rPr>
              <a:t>o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43000" y="144792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rosad</a:t>
            </a:r>
            <a:r>
              <a:rPr b="0" lang="en-GB" sz="15000" spc="-1" strike="noStrike">
                <a:solidFill>
                  <a:srgbClr val="ff0000"/>
                </a:solidFill>
                <a:latin typeface="Comic Sans MS"/>
              </a:rPr>
              <a:t>a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148428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amarill</a:t>
            </a:r>
            <a:r>
              <a:rPr b="0" lang="en-GB" sz="15000" spc="-1" strike="noStrike">
                <a:solidFill>
                  <a:srgbClr val="ff0000"/>
                </a:solidFill>
                <a:latin typeface="Comic Sans MS"/>
              </a:rPr>
              <a:t>a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1280" y="1413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amarill</a:t>
            </a:r>
            <a:r>
              <a:rPr b="0" lang="en-GB" sz="15000" spc="-1" strike="noStrike">
                <a:solidFill>
                  <a:srgbClr val="3333cc"/>
                </a:solidFill>
                <a:latin typeface="Comic Sans MS"/>
              </a:rPr>
              <a:t>o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32000" y="148428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verde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457200"/>
            <a:ext cx="1600200" cy="160020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457200"/>
            <a:ext cx="1600200" cy="160020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6360" y="1413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azule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57200"/>
            <a:ext cx="1600200" cy="160020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87280" y="1413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naranja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24000" y="148428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marróne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457200"/>
            <a:ext cx="1600200" cy="160020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52388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tiene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95640" y="162864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????</a:t>
            </a: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71600" y="167652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cabez</a:t>
            </a:r>
            <a:r>
              <a:rPr b="0" lang="en-GB" sz="15000" spc="-1" strike="noStrike">
                <a:solidFill>
                  <a:srgbClr val="ff0000"/>
                </a:solidFill>
                <a:latin typeface="Comic Sans MS"/>
              </a:rPr>
              <a:t>a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2324160" cy="2565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77080" y="4581360"/>
            <a:ext cx="16970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71600" y="167652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piern</a:t>
            </a:r>
            <a:r>
              <a:rPr b="0" lang="en-GB" sz="15000" spc="-1" strike="noStrike">
                <a:solidFill>
                  <a:srgbClr val="ff0000"/>
                </a:solidFill>
                <a:latin typeface="Comic Sans MS"/>
              </a:rPr>
              <a:t>a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69000" y="4365720"/>
            <a:ext cx="701640" cy="1869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758000" y="4437000"/>
            <a:ext cx="6210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6360" y="112536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man</a:t>
            </a:r>
            <a:r>
              <a:rPr b="0" lang="en-GB" sz="15000" spc="-1" strike="noStrike">
                <a:solidFill>
                  <a:srgbClr val="ff0000"/>
                </a:solidFill>
                <a:latin typeface="Comic Sans MS"/>
              </a:rPr>
              <a:t>o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796000" y="4816440"/>
            <a:ext cx="2449440" cy="1511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419640" y="5121360"/>
            <a:ext cx="23047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71600" y="144792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braz</a:t>
            </a:r>
            <a:r>
              <a:rPr b="0" lang="en-GB" sz="15000" spc="-1" strike="noStrike">
                <a:solidFill>
                  <a:srgbClr val="3333cc"/>
                </a:solidFill>
                <a:latin typeface="Comic Sans MS"/>
              </a:rPr>
              <a:t>o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77080" y="4944960"/>
            <a:ext cx="1871640" cy="1552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24360" y="4941720"/>
            <a:ext cx="19447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819520" y="144792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oj</a:t>
            </a:r>
            <a:r>
              <a:rPr b="0" lang="en-GB" sz="15000" spc="-1" strike="noStrike">
                <a:solidFill>
                  <a:srgbClr val="3333cc"/>
                </a:solidFill>
                <a:latin typeface="Comic Sans MS"/>
              </a:rPr>
              <a:t>o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3280" y="4653000"/>
            <a:ext cx="1079640" cy="534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84720" y="5054760"/>
            <a:ext cx="215928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0:48:41Z</dcterms:created>
  <dc:creator>mwoolvin</dc:creator>
  <dc:description/>
  <dc:language>en-US</dc:language>
  <cp:lastModifiedBy>Katy Oliver</cp:lastModifiedBy>
  <dcterms:modified xsi:type="dcterms:W3CDTF">2012-02-01T14:54:44Z</dcterms:modified>
  <cp:revision>4</cp:revision>
  <dc:subject/>
  <dc:title>PowerPoint Presentation</dc:title>
</cp:coreProperties>
</file>